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8.gif" ContentType="image/gif"/>
  <Override PartName="/ppt/media/image5.png" ContentType="image/png"/>
  <Override PartName="/ppt/media/image6.jpeg" ContentType="image/jpeg"/>
  <Override PartName="/ppt/media/image11.jpeg" ContentType="image/jpeg"/>
  <Override PartName="/ppt/media/image7.png" ContentType="image/png"/>
  <Override PartName="/ppt/media/image9.png" ContentType="image/pn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858000" cy="919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388440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1130040" y="690120"/>
            <a:ext cx="4599000" cy="3449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873720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3884400" y="873720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5E1E1-5878-44E5-86CE-58F6D505A127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737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B8386-044F-4A0F-B9CE-B6680F016A85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737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1B20C-9FA3-4C47-BF59-D38977C8AE6B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737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6BAEC-32EB-4392-BE7C-C4A451102485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737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71F86-9A47-4A17-AACB-CEA897FFA51D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737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DF9EA-2F60-40B8-AF18-0B3787994D2F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737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0EF64-D52E-4C8A-B16F-63748C014042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737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441BC-257F-4482-BD7F-710BEB948F6D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737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C094D-800F-4EBF-AA05-FF12661923F9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737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1EB3E-988E-4768-856F-2BF4B9590423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737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3E765-DEB3-420B-9845-DD443FFDB3AA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737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0DC09-1995-4CDF-8A1B-D203FD7FA07C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737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36660-0AC3-4A7B-8B57-48840773934B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924EE-1FC1-4494-8F08-E0A39F2F9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896400"/>
            <a:ext cx="670572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2133720"/>
            <a:ext cx="67057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6840" y="4219200"/>
            <a:ext cx="67057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C4D58-BA98-4068-8B49-13EA8E443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896400"/>
            <a:ext cx="670572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2133720"/>
            <a:ext cx="32720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893040" y="2133720"/>
            <a:ext cx="32720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6840" y="4219200"/>
            <a:ext cx="32720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893040" y="4219200"/>
            <a:ext cx="32720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7FAE1-2AFE-446E-9E59-F647629FB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6840" y="896400"/>
            <a:ext cx="670572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6840" y="2133720"/>
            <a:ext cx="21589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724120" y="2133720"/>
            <a:ext cx="21589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991400" y="2133720"/>
            <a:ext cx="21589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6840" y="4219200"/>
            <a:ext cx="21589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724120" y="4219200"/>
            <a:ext cx="21589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4991400" y="4219200"/>
            <a:ext cx="21589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C87D3-932C-4C9B-923B-C07455893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896400"/>
            <a:ext cx="670572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6840" y="2133720"/>
            <a:ext cx="670572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81543-BB3C-4BB8-A2E8-FF8870C78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896400"/>
            <a:ext cx="670572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2133720"/>
            <a:ext cx="670572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3B27D-FBDA-4C64-BA53-7F7829BCB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896400"/>
            <a:ext cx="670572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6840" y="2133720"/>
            <a:ext cx="327204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3893040" y="2133720"/>
            <a:ext cx="327204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098DF-D2EC-48CE-B066-E9BC1CF83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896400"/>
            <a:ext cx="670572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4153E-43BD-4B9B-BC5E-28BA674E8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6840" y="896400"/>
            <a:ext cx="6705720" cy="43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FFE7A-18A9-4631-BCE6-AA22E0AA2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6840" y="896400"/>
            <a:ext cx="670572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6840" y="2133720"/>
            <a:ext cx="32720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3893040" y="2133720"/>
            <a:ext cx="327204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6840" y="4219200"/>
            <a:ext cx="32720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2805B-4171-4F4F-B89F-C7A44B33B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6840" y="896400"/>
            <a:ext cx="670572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6840" y="2133720"/>
            <a:ext cx="327204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3893040" y="2133720"/>
            <a:ext cx="32720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893040" y="4219200"/>
            <a:ext cx="32720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0D6AD-E9F5-4F6A-867D-59C9D6104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6840" y="896400"/>
            <a:ext cx="670572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6840" y="2133720"/>
            <a:ext cx="32720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93040" y="2133720"/>
            <a:ext cx="32720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6840" y="4219200"/>
            <a:ext cx="67057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576A5-2C12-4547-80B0-BC3D943C6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896400"/>
            <a:ext cx="670572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2133720"/>
            <a:ext cx="670572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90840" indent="-2656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62720" indent="-2124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87880" indent="-21240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913040" indent="-2124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913040" indent="-2124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913040" indent="-2124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AF90E-6F44-41FD-9FF5-1C823B247E03}" type="datetime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DDCBD-45A7-4C7A-89CF-D87B847FB7D2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5" name="Group 9"/>
          <p:cNvGrpSpPr/>
          <p:nvPr/>
        </p:nvGrpSpPr>
        <p:grpSpPr>
          <a:xfrm>
            <a:off x="0" y="0"/>
            <a:ext cx="9067680" cy="6705720"/>
            <a:chOff x="0" y="0"/>
            <a:chExt cx="9067680" cy="6705720"/>
          </a:xfrm>
        </p:grpSpPr>
        <p:pic>
          <p:nvPicPr>
            <p:cNvPr id="6" name="Picture 7" descr="MS3 copy"/>
            <p:cNvPicPr/>
            <p:nvPr/>
          </p:nvPicPr>
          <p:blipFill>
            <a:blip r:embed="rId2">
              <a:grayscl/>
              <a:lum bright="20000"/>
            </a:blip>
            <a:stretch/>
          </p:blipFill>
          <p:spPr>
            <a:xfrm>
              <a:off x="0" y="0"/>
              <a:ext cx="7238880" cy="71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" name="Picture 8" descr="MS2 copy"/>
            <p:cNvPicPr/>
            <p:nvPr/>
          </p:nvPicPr>
          <p:blipFill>
            <a:blip r:embed="rId3"/>
            <a:stretch/>
          </p:blipFill>
          <p:spPr>
            <a:xfrm>
              <a:off x="7300800" y="76320"/>
              <a:ext cx="1766880" cy="66294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896400"/>
            <a:ext cx="6705720" cy="93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6840" y="2133720"/>
            <a:ext cx="670572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at is an independent variable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at is a dependent variabl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ive example of each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Use more then one item to describe . Use detail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6840" y="896400"/>
            <a:ext cx="6705720" cy="93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tthias Schleid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971440" y="2133720"/>
            <a:ext cx="44197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orn: April 5, 1804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ed: June 23, 188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erman botanis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scovered that all plants were made of cell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tributed to the creation of the cell theor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2" name="Picture 5" descr="Photograph:Matthias Schleiden."/>
          <p:cNvPicPr/>
          <p:nvPr/>
        </p:nvPicPr>
        <p:blipFill>
          <a:blip r:embed="rId1"/>
          <a:stretch/>
        </p:blipFill>
        <p:spPr>
          <a:xfrm>
            <a:off x="533520" y="2209680"/>
            <a:ext cx="2314440" cy="3505320"/>
          </a:xfrm>
          <a:prstGeom prst="rect">
            <a:avLst/>
          </a:prstGeom>
          <a:ln w="0">
            <a:noFill/>
          </a:ln>
        </p:spPr>
      </p:pic>
      <p:sp>
        <p:nvSpPr>
          <p:cNvPr id="83" name="Text Box 6"/>
          <p:cNvSpPr/>
          <p:nvPr/>
        </p:nvSpPr>
        <p:spPr>
          <a:xfrm>
            <a:off x="762120" y="57913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</a:rPr>
              <a:t>http://www.britannica.com/eb/article-9066147/Mathias-Jacob-Schleiden</a:t>
            </a: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6840" y="896400"/>
            <a:ext cx="6705720" cy="93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odor Schwan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971440" y="2133720"/>
            <a:ext cx="42670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orn: December 7, 181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ed: January 11, 188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erman zoologis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cluded that all animals are made of cell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tributed to the creation of the cell theor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6" name="Picture 11" descr="Theodor Schwann"/>
          <p:cNvPicPr/>
          <p:nvPr/>
        </p:nvPicPr>
        <p:blipFill>
          <a:blip r:embed="rId1"/>
          <a:stretch/>
        </p:blipFill>
        <p:spPr>
          <a:xfrm>
            <a:off x="304920" y="2133720"/>
            <a:ext cx="2428920" cy="3657600"/>
          </a:xfrm>
          <a:prstGeom prst="rect">
            <a:avLst/>
          </a:prstGeom>
          <a:ln w="0">
            <a:noFill/>
          </a:ln>
        </p:spPr>
      </p:pic>
      <p:sp>
        <p:nvSpPr>
          <p:cNvPr id="87" name="Text Box 12"/>
          <p:cNvSpPr/>
          <p:nvPr/>
        </p:nvSpPr>
        <p:spPr>
          <a:xfrm>
            <a:off x="228600" y="5943600"/>
            <a:ext cx="2819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US" sz="800" spc="-1" strike="noStrike">
                <a:solidFill>
                  <a:srgbClr val="000000"/>
                </a:solidFill>
                <a:latin typeface="Comic Sans MS"/>
              </a:rPr>
              <a:t>http://www.nndb.com/people/357/000096069/</a:t>
            </a: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896400"/>
            <a:ext cx="6705720" cy="93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udolph Vircho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819160" y="1904760"/>
            <a:ext cx="464796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orn: October 13, 182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-2984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ed: September 5, 190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-2984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erman pathologis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-2984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e is known as the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“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ather of Pathology.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-2984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scovered that all living cells come only from other living cell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228600" y="5943600"/>
            <a:ext cx="2819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</a:rPr>
              <a:t>http://en.wikipedia.org/wiki/Image:Rudolf_Virchow.jpg</a:t>
            </a: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1" name="Picture 7" descr="Image:Rudolf Virchow.jpg"/>
          <p:cNvPicPr/>
          <p:nvPr/>
        </p:nvPicPr>
        <p:blipFill>
          <a:blip r:embed="rId1"/>
          <a:stretch/>
        </p:blipFill>
        <p:spPr>
          <a:xfrm>
            <a:off x="228600" y="1981080"/>
            <a:ext cx="259092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896400"/>
            <a:ext cx="6705720" cy="93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Cell The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2133720"/>
            <a:ext cx="670572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ajor Contributors: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tthias Schleide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odor Schwan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udolph Virchow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896400"/>
            <a:ext cx="6705720" cy="93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Cell The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2133720"/>
            <a:ext cx="670572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ll living things are made of cell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ells are the basic units of structure and function in living thing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iving cells come only from other living cell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896400"/>
            <a:ext cx="6705720" cy="93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scribing Cell The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6840" y="2133720"/>
            <a:ext cx="670572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ells Provide structure and carry on major functions to sustain lif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ome organisms are single cell, other organisms are multi-cell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ell function is similar in all living thing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981080"/>
            <a:ext cx="67816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Cell Theory and the Scientists </a:t>
            </a: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Who Helped Shape It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896400"/>
            <a:ext cx="6705720" cy="93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Ce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2133720"/>
            <a:ext cx="670572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smallest unit that can perform all life process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5" descr="Early%2520microscope"/>
          <p:cNvPicPr/>
          <p:nvPr/>
        </p:nvPicPr>
        <p:blipFill>
          <a:blip r:embed="rId1"/>
          <a:stretch/>
        </p:blipFill>
        <p:spPr>
          <a:xfrm>
            <a:off x="1828800" y="2057400"/>
            <a:ext cx="3809880" cy="480060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5"/>
          <p:cNvSpPr/>
          <p:nvPr/>
        </p:nvSpPr>
        <p:spPr>
          <a:xfrm>
            <a:off x="0" y="609480"/>
            <a:ext cx="701028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Scientists and </a:t>
            </a: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the Cell Theory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896400"/>
            <a:ext cx="6705720" cy="93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obert Hook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276720" y="2057400"/>
            <a:ext cx="40384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orn: July 18, 1635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ed: March 3, 1703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rote and published “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Micrographia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Known as the “English Father of Microscopy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1" name="Picture 5" descr="Hooke"/>
          <p:cNvPicPr/>
          <p:nvPr/>
        </p:nvPicPr>
        <p:blipFill>
          <a:blip r:embed="rId1"/>
          <a:stretch/>
        </p:blipFill>
        <p:spPr>
          <a:xfrm>
            <a:off x="304920" y="2057400"/>
            <a:ext cx="2743200" cy="3657600"/>
          </a:xfrm>
          <a:prstGeom prst="rect">
            <a:avLst/>
          </a:prstGeom>
          <a:ln w="0">
            <a:noFill/>
          </a:ln>
        </p:spPr>
      </p:pic>
      <p:sp>
        <p:nvSpPr>
          <p:cNvPr id="62" name="Text Box 6"/>
          <p:cNvSpPr/>
          <p:nvPr/>
        </p:nvSpPr>
        <p:spPr>
          <a:xfrm>
            <a:off x="0" y="5943600"/>
            <a:ext cx="2743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Text Box 7"/>
          <p:cNvSpPr/>
          <p:nvPr/>
        </p:nvSpPr>
        <p:spPr>
          <a:xfrm>
            <a:off x="304920" y="5867280"/>
            <a:ext cx="2743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Text Box 8"/>
          <p:cNvSpPr/>
          <p:nvPr/>
        </p:nvSpPr>
        <p:spPr>
          <a:xfrm>
            <a:off x="152280" y="5867280"/>
            <a:ext cx="342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</a:rPr>
              <a:t>http://www-groups.dcs.st-and.ac.uk/~history/PictDisplay/Hooke.html</a:t>
            </a: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896400"/>
            <a:ext cx="6705720" cy="93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obert Hook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1828800"/>
            <a:ext cx="464832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lvl="1" marL="66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tribution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 He observed pieces of cork from the bark of a cork tree under the microscop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 His observations led him to coin the word “cell.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 “Cell”- means little rooms in Lati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 He compared the small boxes to the small rooms that monks lived in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7" name="Picture 5" descr="Cork cells"/>
          <p:cNvPicPr/>
          <p:nvPr/>
        </p:nvPicPr>
        <p:blipFill>
          <a:blip r:embed="rId1"/>
          <a:stretch/>
        </p:blipFill>
        <p:spPr>
          <a:xfrm>
            <a:off x="4724280" y="1981080"/>
            <a:ext cx="2319480" cy="3581640"/>
          </a:xfrm>
          <a:prstGeom prst="rect">
            <a:avLst/>
          </a:prstGeom>
          <a:ln w="0">
            <a:noFill/>
          </a:ln>
        </p:spPr>
      </p:pic>
      <p:sp>
        <p:nvSpPr>
          <p:cNvPr id="68" name="Text Box 6"/>
          <p:cNvSpPr/>
          <p:nvPr/>
        </p:nvSpPr>
        <p:spPr>
          <a:xfrm>
            <a:off x="4572000" y="571500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</a:rPr>
              <a:t>http://www.learner.org/channel/courses/essential/life/session1/closer1.html</a:t>
            </a: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5"/>
          <p:cNvSpPr/>
          <p:nvPr/>
        </p:nvSpPr>
        <p:spPr>
          <a:xfrm>
            <a:off x="457200" y="914400"/>
            <a:ext cx="6705720" cy="522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Rectangle 6"/>
          <p:cNvSpPr/>
          <p:nvPr/>
        </p:nvSpPr>
        <p:spPr>
          <a:xfrm>
            <a:off x="457200" y="914400"/>
            <a:ext cx="6705720" cy="522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1" name="Picture 9" descr="hooke"/>
          <p:cNvPicPr/>
          <p:nvPr/>
        </p:nvPicPr>
        <p:blipFill>
          <a:blip r:embed="rId1"/>
          <a:stretch/>
        </p:blipFill>
        <p:spPr>
          <a:xfrm>
            <a:off x="1066680" y="990720"/>
            <a:ext cx="50292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896400"/>
            <a:ext cx="6705720" cy="93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ton van Leeuwenhoe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123720" y="2133720"/>
            <a:ext cx="403884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orn: October 24, 163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ed: August 30, 1723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e is known as the “Father of Microscopy.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4" name="Picture 5" descr="280px-Antoni_van_Leeuwenhoek"/>
          <p:cNvPicPr/>
          <p:nvPr/>
        </p:nvPicPr>
        <p:blipFill>
          <a:blip r:embed="rId1"/>
          <a:stretch/>
        </p:blipFill>
        <p:spPr>
          <a:xfrm>
            <a:off x="457200" y="2057400"/>
            <a:ext cx="2666880" cy="3581280"/>
          </a:xfrm>
          <a:prstGeom prst="rect">
            <a:avLst/>
          </a:prstGeom>
          <a:ln w="0">
            <a:noFill/>
          </a:ln>
        </p:spPr>
      </p:pic>
      <p:sp>
        <p:nvSpPr>
          <p:cNvPr id="75" name="Text Box 6"/>
          <p:cNvSpPr/>
          <p:nvPr/>
        </p:nvSpPr>
        <p:spPr>
          <a:xfrm>
            <a:off x="457200" y="586728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</a:rPr>
              <a:t>http://en.wikipedia.org/wiki/Anton_van_Leeuwenhoek</a:t>
            </a: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896400"/>
            <a:ext cx="6705720" cy="93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ton van Leeuwenhoe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373392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iscoveries: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46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 1673: He looked at pond scum under the microscope and discovered small organisms he called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animalcules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r little animals (Protists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46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 1676: discovered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acteri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46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8" name="Picture 5" descr="cilia"/>
          <p:cNvPicPr/>
          <p:nvPr/>
        </p:nvPicPr>
        <p:blipFill>
          <a:blip r:embed="rId1"/>
          <a:stretch/>
        </p:blipFill>
        <p:spPr>
          <a:xfrm>
            <a:off x="4267080" y="1981080"/>
            <a:ext cx="2571840" cy="3429000"/>
          </a:xfrm>
          <a:prstGeom prst="rect">
            <a:avLst/>
          </a:prstGeom>
          <a:ln w="0">
            <a:noFill/>
          </a:ln>
        </p:spPr>
      </p:pic>
      <p:sp>
        <p:nvSpPr>
          <p:cNvPr id="79" name="Text Box 6"/>
          <p:cNvSpPr/>
          <p:nvPr/>
        </p:nvSpPr>
        <p:spPr>
          <a:xfrm>
            <a:off x="4267080" y="5638680"/>
            <a:ext cx="2590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</a:rPr>
              <a:t>http://www.kent.k12.wa.us/staff/TimLynch/sci_class/chap09/lesson_protista/Protista_Lesson.html#Algae</a:t>
            </a: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14:23:45Z</dcterms:created>
  <dc:creator>Amanda Marie Culp</dc:creator>
  <dc:description/>
  <dc:language>en-US</dc:language>
  <cp:lastModifiedBy>Administrator</cp:lastModifiedBy>
  <dcterms:modified xsi:type="dcterms:W3CDTF">2014-05-27T16:10:43Z</dcterms:modified>
  <cp:revision>25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424121033</vt:lpwstr>
  </property>
</Properties>
</file>